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19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3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37.jpeg" ContentType="image/jpeg"/>
  <Override PartName="/ppt/media/image4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.wmf" ContentType="image/x-wmf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67367-6865-4C99-80A4-1ADF82262D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74646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EFF7-25DD-497D-8B7E-9F5935693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1840" y="396216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827F-ABA6-4FED-8066-E7D5FB1DE8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0800" y="396216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4760" y="396216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696D-0840-423C-829D-8AB32AC29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039AA-F4A3-4750-B7B7-750CC79F1A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2779D-F39C-4E87-B6AA-3D9D3C0294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C51F8-6EF3-4A02-BF6E-9118E7C6E3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4BCCC-A51A-4D79-8150-475044D930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0A23F-2CA4-4652-BA53-243B25536F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96840"/>
            <a:ext cx="746460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8E348-5E41-4BC6-982A-C9EB166F25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90A41-71C7-415C-9D11-9641C65130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B051-4546-4575-8743-96019F8CB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1840" y="396216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0EC6C-3691-4023-A4A5-54741694C4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74646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976C1-5366-470A-B5D9-5589D610E2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74646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DC66B-B127-4A75-BAE7-E65346DF88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81840" y="396216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5116B-3F5B-4AD9-8EB0-B7D55CB685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80800" y="396216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04760" y="396216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4C97B-1001-4944-99A2-93650F78921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8F94-4908-4C49-B1B8-CA2145BAB1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F35B-2D39-4A59-B3F1-12BDE87ABE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2F2-4074-4736-9B16-11642F83AE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55E2-DDED-43B9-8131-FE8245367E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918A-E252-4C61-8DBA-1FFF4FF588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9B4A3-1A53-41EC-9677-063FA1469B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6840" y="96840"/>
            <a:ext cx="746460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D952-7E35-4ED9-955B-33CFB1D670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C7DD-2041-4C0F-B755-5F915F82D0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81840" y="396216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FB55-FBD0-4B7E-B80F-6F9D8F5901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74646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A72C-4687-443F-953B-A62F61D25F9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74646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73EA-F99F-45E4-82E5-1618359BE5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281840" y="396216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E8B9-7A95-484F-84B6-5A5C4A2D45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980800" y="396216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504760" y="396216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A499-51D0-4410-A7BD-AFBBDD0AEF1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290F0-8A6E-465C-A68B-3E17226A08D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4D63C-1EBC-4B0F-8D8B-8180E1F1FC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B8A99-2BAE-4A2B-BC77-9B740BB6A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A5FB-CBD9-4053-949A-9B1352245BB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3DE94-66C8-4EF6-939F-799474480EB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87EFD-631F-45E9-B8E2-92AE99D42CC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6840" y="96840"/>
            <a:ext cx="746460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4D7BE-6E0F-4BA5-BA7D-678B54715C5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7A628-0A43-47FE-AD2B-09C6CDBB84E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281840" y="396216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8E3D9-CD2E-4BAE-A9D3-498F7E137F3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74646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33D7D-24D1-4783-9833-744371B984E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74646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C5645-17AB-47F5-B8B6-294C008E7C3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281840" y="396216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F694E-C630-4C2D-A682-7D6383C1B22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980800" y="396216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504760" y="3962160"/>
            <a:ext cx="2403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0E11A-EDF4-4357-995E-90FFCEF40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AD257-0247-437A-B33A-127F61584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96840"/>
            <a:ext cx="746460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AE44D-CB8C-4BF8-82DF-280751EC8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13FF6-9F07-4949-9A2A-BBBCDD8CA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1840" y="396216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05802-BFD3-4064-B06F-F8241233DF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74646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4EB55-2571-4BC6-AE7A-901096B39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7d7d"/>
            </a:gs>
            <a:gs pos="100000">
              <a:srgbClr val="242424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419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153280" y="641952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15F67AB9-E40F-4CE6-9BF1-204A2CF75CD7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419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8153280" y="641952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6C3D8286-64D4-4DF2-B340-E3A91CD7EF53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6419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8156520" y="641952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930DF8AB-9C1A-4BA1-A63C-347722A473F8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96840"/>
            <a:ext cx="746460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6419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8153280" y="641952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A7E4FEB4-C54F-4909-83BB-286FD4ED318F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a0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1143000" y="1371600"/>
            <a:ext cx="6397560" cy="2739960"/>
            <a:chOff x="1143000" y="1371600"/>
            <a:chExt cx="6397560" cy="273996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1143000" y="1371600"/>
              <a:ext cx="6397560" cy="27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143000" y="1371600"/>
              <a:ext cx="6397560" cy="27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457200" y="2743200"/>
            <a:ext cx="648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y: Kianna Hopki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285920" y="1017720"/>
            <a:ext cx="1149480" cy="1174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-333360" y="-114480"/>
            <a:ext cx="133200" cy="319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371600" y="457200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743200" y="304920"/>
            <a:ext cx="37339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Desert Biome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5800" indent="-3808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There are deserts found in western Austral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15800" indent="-380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Not all deserts that you go to or see have sand du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15800" indent="-380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Deserts receive less than 25 cm. of rain or snow each ye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1580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227160" y="2970360"/>
            <a:ext cx="2095200" cy="20952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2262240" y="27669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4572000" y="2743200"/>
            <a:ext cx="4572000" cy="3886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519880" y="4583160"/>
            <a:ext cx="1600200" cy="13716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86000" y="4102200"/>
            <a:ext cx="37339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Thank you for 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114300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79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48240"/>
                <a:tab algn="l" pos="5905440"/>
                <a:tab algn="l" pos="6362640"/>
                <a:tab algn="l" pos="6819840"/>
                <a:tab algn="l" pos="7277040"/>
                <a:tab algn="l" pos="7734240"/>
                <a:tab algn="l" pos="8191440"/>
                <a:tab algn="l" pos="8648640"/>
                <a:tab algn="l" pos="9105840"/>
                <a:tab algn="l" pos="9563040"/>
                <a:tab algn="l" pos="9601200"/>
                <a:tab algn="l" pos="10058400"/>
                <a:tab algn="l" pos="10515600"/>
              </a:tabLst>
            </a:pPr>
            <a:r>
              <a:rPr b="0" lang="en-US" sz="9600" spc="-1" strike="noStrike">
                <a:solidFill>
                  <a:srgbClr val="00ffff"/>
                </a:solidFill>
                <a:latin typeface="comic"/>
              </a:rPr>
              <a:t>END OF SHOW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5546880" y="4343400"/>
            <a:ext cx="1295280" cy="7430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858000" y="438624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95280" cy="13525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7705800" y="5438880"/>
            <a:ext cx="1438200" cy="1419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rcRect l="0" t="14874" r="5255" b="14874"/>
          <a:stretch/>
        </p:blipFill>
        <p:spPr>
          <a:xfrm>
            <a:off x="3027240" y="1481040"/>
            <a:ext cx="1316160" cy="10335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6"/>
          <a:stretch/>
        </p:blipFill>
        <p:spPr>
          <a:xfrm>
            <a:off x="7772400" y="0"/>
            <a:ext cx="1362240" cy="13809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7"/>
          <a:stretch/>
        </p:blipFill>
        <p:spPr>
          <a:xfrm>
            <a:off x="0" y="5486400"/>
            <a:ext cx="1200240" cy="1305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14480" y="3814920"/>
            <a:ext cx="3429000" cy="23907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143000" y="15228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Kristen ITC"/>
              </a:rPr>
              <a:t>Tropical Rainforest</a:t>
            </a:r>
            <a:r>
              <a:rPr b="0" lang="en-US" sz="41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Kristen ITC"/>
              </a:rPr>
              <a:t>Biome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1143000"/>
            <a:ext cx="8153280" cy="21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5800" indent="-380880">
              <a:lnSpc>
                <a:spcPct val="100000"/>
              </a:lnSpc>
              <a:spcBef>
                <a:spcPts val="601"/>
              </a:spcBef>
              <a:buClr>
                <a:srgbClr val="080808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Rainforest biomes have over 5 types of snak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15800" indent="-380880">
              <a:lnSpc>
                <a:spcPct val="100000"/>
              </a:lnSpc>
              <a:spcBef>
                <a:spcPts val="601"/>
              </a:spcBef>
              <a:buClr>
                <a:srgbClr val="080808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n the rainforest plants easily find their nee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15800" indent="-380880">
              <a:lnSpc>
                <a:spcPct val="100000"/>
              </a:lnSpc>
              <a:spcBef>
                <a:spcPts val="601"/>
              </a:spcBef>
              <a:buClr>
                <a:srgbClr val="080808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n the rainforest with tons of plants, plant eating animals have no trouble finding foo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1580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105520" y="3887640"/>
            <a:ext cx="4038480" cy="2971800"/>
            <a:chOff x="5105520" y="3887640"/>
            <a:chExt cx="4038480" cy="2971800"/>
          </a:xfrm>
        </p:grpSpPr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5105520" y="3887640"/>
              <a:ext cx="403848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410080" y="4114800"/>
              <a:ext cx="350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Lucida Handwriting"/>
                </a:rPr>
                <a:t>Red eyed frog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809880" y="5010120"/>
            <a:ext cx="2971800" cy="1847880"/>
            <a:chOff x="3809880" y="5010120"/>
            <a:chExt cx="2971800" cy="1847880"/>
          </a:xfrm>
        </p:grpSpPr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3963960" y="501012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809880" y="54100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Lucida Handwriting"/>
                </a:rPr>
                <a:t>Green mamba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905120" y="228600"/>
            <a:ext cx="44193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80808"/>
                </a:solidFill>
                <a:latin typeface="Lucida Handwriting"/>
              </a:rPr>
              <a:t>Water</a:t>
            </a:r>
            <a:r>
              <a:rPr b="0" lang="en-US" sz="4600" spc="-1" strike="noStrike">
                <a:solidFill>
                  <a:srgbClr val="ffffff"/>
                </a:solidFill>
                <a:latin typeface="Lucida Handwriting"/>
              </a:rPr>
              <a:t> </a:t>
            </a:r>
            <a:r>
              <a:rPr b="0" lang="en-US" sz="4600" spc="-1" strike="noStrike">
                <a:solidFill>
                  <a:srgbClr val="080808"/>
                </a:solidFill>
                <a:latin typeface="Lucida Handwriting"/>
              </a:rPr>
              <a:t>Biome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1600200"/>
            <a:ext cx="7696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79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48240"/>
                <a:tab algn="l" pos="5905440"/>
                <a:tab algn="l" pos="6362640"/>
                <a:tab algn="l" pos="6819840"/>
                <a:tab algn="l" pos="7277040"/>
                <a:tab algn="l" pos="7734240"/>
                <a:tab algn="l" pos="8191440"/>
                <a:tab algn="l" pos="8648640"/>
                <a:tab algn="l" pos="9105840"/>
                <a:tab algn="l" pos="9563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Lucida Handwriting"/>
              </a:rPr>
              <a:t>  </a:t>
            </a:r>
            <a:r>
              <a:rPr b="0" lang="en-US" sz="2000" spc="-1" strike="noStrike">
                <a:solidFill>
                  <a:srgbClr val="080808"/>
                </a:solidFill>
                <a:latin typeface="Lucida Handwriting"/>
              </a:rPr>
              <a:t>Water biomes are lakes, rivers, oceans, steams, and pond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19040" indent="-379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48240"/>
                <a:tab algn="l" pos="5905440"/>
                <a:tab algn="l" pos="6362640"/>
                <a:tab algn="l" pos="6819840"/>
                <a:tab algn="l" pos="7277040"/>
                <a:tab algn="l" pos="7734240"/>
                <a:tab algn="l" pos="8191440"/>
                <a:tab algn="l" pos="8648640"/>
                <a:tab algn="l" pos="9105840"/>
                <a:tab algn="l" pos="9563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Lucida Handwriting"/>
              </a:rPr>
              <a:t>  •</a:t>
            </a:r>
            <a:r>
              <a:rPr b="0" lang="en-US" sz="2000" spc="-1" strike="noStrike">
                <a:solidFill>
                  <a:srgbClr val="080808"/>
                </a:solidFill>
                <a:latin typeface="Lucida Handwriting"/>
              </a:rPr>
              <a:t>Ocean biomes have over 100 fish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19040" indent="-379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48240"/>
                <a:tab algn="l" pos="5905440"/>
                <a:tab algn="l" pos="6362640"/>
                <a:tab algn="l" pos="6819840"/>
                <a:tab algn="l" pos="7277040"/>
                <a:tab algn="l" pos="7734240"/>
                <a:tab algn="l" pos="8191440"/>
                <a:tab algn="l" pos="8648640"/>
                <a:tab algn="l" pos="9105840"/>
                <a:tab algn="l" pos="9563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Lucida Handwriting"/>
              </a:rPr>
              <a:t>  •</a:t>
            </a:r>
            <a:r>
              <a:rPr b="0" lang="en-US" sz="2000" spc="-1" strike="noStrike">
                <a:solidFill>
                  <a:srgbClr val="080808"/>
                </a:solidFill>
                <a:latin typeface="Lucida Handwriting"/>
              </a:rPr>
              <a:t>The water biomes are home to many</a:t>
            </a:r>
            <a:r>
              <a:rPr b="0" lang="en-US" sz="2000" spc="-1" strike="noStrike">
                <a:solidFill>
                  <a:srgbClr val="ffffff"/>
                </a:solidFill>
                <a:latin typeface="Lucida Handwriting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organism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-1440" y="3352680"/>
            <a:ext cx="4572000" cy="3057480"/>
            <a:chOff x="-1440" y="3352680"/>
            <a:chExt cx="4572000" cy="305748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-1440" y="3352680"/>
              <a:ext cx="4572000" cy="30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666880" y="37339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Handwriting"/>
                </a:rPr>
                <a:t>Dolphin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267080" y="4222800"/>
            <a:ext cx="3368880" cy="2636640"/>
            <a:chOff x="4267080" y="4222800"/>
            <a:chExt cx="3368880" cy="2636640"/>
          </a:xfrm>
        </p:grpSpPr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4267080" y="4222800"/>
              <a:ext cx="3353040" cy="26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943600" y="6032520"/>
              <a:ext cx="16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Handwriting"/>
                </a:rPr>
                <a:t>Dusky Dolphin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362400" y="2481120"/>
            <a:ext cx="241920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362400" y="2481120"/>
            <a:ext cx="241920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362400" y="2481120"/>
            <a:ext cx="241920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4267080" y="3124080"/>
            <a:ext cx="31910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4495680" y="2971800"/>
            <a:ext cx="3267360" cy="25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2666880"/>
            <a:ext cx="241920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039760" y="5126040"/>
            <a:ext cx="2667240" cy="1752480"/>
            <a:chOff x="2039760" y="5126040"/>
            <a:chExt cx="2667240" cy="1752480"/>
          </a:xfrm>
        </p:grpSpPr>
        <p:pic>
          <p:nvPicPr>
            <p:cNvPr id="198" name="" descr=""/>
            <p:cNvPicPr/>
            <p:nvPr/>
          </p:nvPicPr>
          <p:blipFill>
            <a:blip r:embed="rId3"/>
            <a:stretch/>
          </p:blipFill>
          <p:spPr>
            <a:xfrm>
              <a:off x="2039760" y="5126040"/>
              <a:ext cx="26672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209680" y="61722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80808"/>
                  </a:solidFill>
                  <a:latin typeface="Lucida Handwriting"/>
                </a:rPr>
                <a:t>Sea turtle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429000" y="2743200"/>
            <a:ext cx="2505240" cy="1828800"/>
            <a:chOff x="3429000" y="2743200"/>
            <a:chExt cx="2505240" cy="1828800"/>
          </a:xfrm>
        </p:grpSpPr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3429000" y="2743200"/>
              <a:ext cx="25052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410000" y="28195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Lucida Handwriting"/>
                </a:rPr>
                <a:t>Shark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828800" y="304920"/>
            <a:ext cx="42670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eep sea Biome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905120"/>
            <a:ext cx="8001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5800" indent="-38088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ep sea biomes are so deep under the sea that no sun can reach them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15800" indent="-38088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ish in the deep sea can glow sometimes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15800" indent="-380880">
              <a:lnSpc>
                <a:spcPct val="90000"/>
              </a:lnSpc>
              <a:spcBef>
                <a:spcPts val="451"/>
              </a:spcBef>
              <a:buClr>
                <a:srgbClr val="080808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ish have to deal with darkness, coldness, and very high water temp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-1440" y="4060800"/>
            <a:ext cx="3733560" cy="2797200"/>
            <a:chOff x="-1440" y="4060800"/>
            <a:chExt cx="3733560" cy="279720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-1440" y="4060800"/>
              <a:ext cx="3733560" cy="27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533520" y="480060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Handwriting"/>
                </a:rPr>
                <a:t>Frilled shark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429000" y="3427560"/>
            <a:ext cx="2590920" cy="1761840"/>
            <a:chOff x="3429000" y="3427560"/>
            <a:chExt cx="2590920" cy="1761840"/>
          </a:xfrm>
        </p:grpSpPr>
        <p:pic>
          <p:nvPicPr>
            <p:cNvPr id="209" name="" descr=""/>
            <p:cNvPicPr/>
            <p:nvPr/>
          </p:nvPicPr>
          <p:blipFill>
            <a:blip r:embed="rId2"/>
            <a:stretch/>
          </p:blipFill>
          <p:spPr>
            <a:xfrm>
              <a:off x="3429000" y="3427560"/>
              <a:ext cx="2590920" cy="17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733920" y="44956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d4d2d0"/>
                  </a:solidFill>
                  <a:latin typeface="Lucida Handwriting"/>
                </a:rPr>
                <a:t>seahorse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strips dir="r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981680" y="3255840"/>
            <a:ext cx="3933720" cy="360216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-136800" y="4604760"/>
            <a:ext cx="3074400" cy="2449440"/>
            <a:chOff x="-136800" y="4604760"/>
            <a:chExt cx="3074400" cy="2449440"/>
          </a:xfrm>
        </p:grpSpPr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 rot="21088800">
              <a:off x="0" y="4800600"/>
              <a:ext cx="280044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762120" y="52578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arracuda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545080" y="-182520"/>
            <a:ext cx="3797280" cy="4116960"/>
            <a:chOff x="5545080" y="-182520"/>
            <a:chExt cx="3797280" cy="4116960"/>
          </a:xfrm>
        </p:grpSpPr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 rot="21205200">
              <a:off x="5743440" y="0"/>
              <a:ext cx="340056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7315200" y="27432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mora and Nurse shark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-133560" y="-60480"/>
            <a:ext cx="5524560" cy="3854520"/>
            <a:chOff x="-133560" y="-60480"/>
            <a:chExt cx="5524560" cy="3854520"/>
          </a:xfrm>
        </p:grpSpPr>
        <p:pic>
          <p:nvPicPr>
            <p:cNvPr id="219" name="" descr=""/>
            <p:cNvPicPr/>
            <p:nvPr/>
          </p:nvPicPr>
          <p:blipFill>
            <a:blip r:embed="rId4"/>
            <a:stretch/>
          </p:blipFill>
          <p:spPr>
            <a:xfrm rot="286200">
              <a:off x="0" y="151920"/>
              <a:ext cx="52578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457200" y="1752480"/>
              <a:ext cx="198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Coral reef fish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057400" y="228600"/>
            <a:ext cx="52578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KaiTi"/>
              </a:rPr>
              <a:t>Coral  Reef Biome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3276720"/>
            <a:ext cx="7467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20720" indent="-271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andara"/>
              <a:buChar char="•"/>
              <a:tabLst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86472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The coral reef is warm temp. wat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 2" charset="2"/>
              <a:buChar char=""/>
              <a:tabLst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86472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It’s water contains many fish and cora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4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 2" charset="2"/>
              <a:buChar char=""/>
              <a:tabLst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86472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Extra nutrients may harm the coral reef by helping enemy's grow into big enemy’s so they can do damage to i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86472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895480" y="0"/>
            <a:ext cx="37339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80808"/>
                </a:solidFill>
                <a:latin typeface="Franklin Gothic Book"/>
              </a:rPr>
              <a:t>Tundra Biome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5800" indent="-380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ribou change their grazing behavior when the snow com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15800" indent="-380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undra gets very little rai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572000" y="4419720"/>
            <a:ext cx="3733920" cy="2971800"/>
            <a:chOff x="4572000" y="4419720"/>
            <a:chExt cx="3733920" cy="297180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4572000" y="4419720"/>
              <a:ext cx="297180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724280" y="5029200"/>
              <a:ext cx="35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Lucida Handwriting"/>
                </a:rPr>
                <a:t>Wolf baby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-128160" y="3760560"/>
            <a:ext cx="4218480" cy="3040920"/>
            <a:chOff x="-128160" y="3760560"/>
            <a:chExt cx="4218480" cy="3040920"/>
          </a:xfrm>
        </p:grpSpPr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 rot="364200">
              <a:off x="0" y="3962520"/>
              <a:ext cx="3962160" cy="26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1598400" y="48006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Handwriting"/>
                </a:rPr>
                <a:t>Fox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032600" y="0"/>
            <a:ext cx="1882800" cy="1981080"/>
            <a:chOff x="7032600" y="0"/>
            <a:chExt cx="1882800" cy="1981080"/>
          </a:xfrm>
        </p:grpSpPr>
        <p:pic>
          <p:nvPicPr>
            <p:cNvPr id="232" name="" descr=""/>
            <p:cNvPicPr/>
            <p:nvPr/>
          </p:nvPicPr>
          <p:blipFill>
            <a:blip r:embed="rId3"/>
            <a:stretch/>
          </p:blipFill>
          <p:spPr>
            <a:xfrm>
              <a:off x="7032600" y="0"/>
              <a:ext cx="18828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7223040" y="566640"/>
              <a:ext cx="154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Lucida Handwriting"/>
                </a:rPr>
                <a:t>Falcon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5943600" y="2971800"/>
            <a:ext cx="1943280" cy="1143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248520" y="32004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mm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819520" y="304920"/>
            <a:ext cx="33526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Taiga Biome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5800" indent="-380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The animals that you might find here are bears, elk, and wolf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15800" indent="-380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Smaller animals are mice, wolverine, and porcupi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15800" indent="-380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You may also see ducks, owls, and wood pecke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-229320" y="6858000"/>
            <a:ext cx="228600" cy="76320"/>
          </a:xfrm>
          <a:prstGeom prst="roundRect">
            <a:avLst>
              <a:gd name="adj" fmla="val 23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057400" y="3124080"/>
            <a:ext cx="2819520" cy="2362320"/>
            <a:chOff x="2057400" y="3124080"/>
            <a:chExt cx="2819520" cy="2362320"/>
          </a:xfrm>
        </p:grpSpPr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2057400" y="3200400"/>
              <a:ext cx="28195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666880" y="3124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Handwriting"/>
                </a:rPr>
                <a:t>Wolverin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0" y="3124080"/>
            <a:ext cx="3200400" cy="3736440"/>
            <a:chOff x="0" y="3124080"/>
            <a:chExt cx="3200400" cy="3736440"/>
          </a:xfrm>
        </p:grpSpPr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0" y="3124080"/>
              <a:ext cx="228600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64008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Handwriting"/>
                </a:rPr>
                <a:t>Bear and Wolf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724280" y="3276720"/>
            <a:ext cx="2324160" cy="1828800"/>
            <a:chOff x="4724280" y="3276720"/>
            <a:chExt cx="2324160" cy="1828800"/>
          </a:xfrm>
        </p:grpSpPr>
        <p:pic>
          <p:nvPicPr>
            <p:cNvPr id="246" name="" descr=""/>
            <p:cNvPicPr/>
            <p:nvPr/>
          </p:nvPicPr>
          <p:blipFill>
            <a:blip r:embed="rId3"/>
            <a:stretch/>
          </p:blipFill>
          <p:spPr>
            <a:xfrm>
              <a:off x="4724280" y="3276720"/>
              <a:ext cx="23241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4724280" y="434340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Handwriting"/>
                </a:rPr>
                <a:t>Albino  Wolverine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429000" y="5105520"/>
            <a:ext cx="2505240" cy="1819440"/>
            <a:chOff x="3429000" y="5105520"/>
            <a:chExt cx="2505240" cy="1819440"/>
          </a:xfrm>
        </p:grpSpPr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3429000" y="5105520"/>
              <a:ext cx="2505240" cy="18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3800520" y="62485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Lucida Handwriting"/>
                </a:rPr>
                <a:t>Mice babie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-228600" y="-228600"/>
            <a:ext cx="8458200" cy="7772400"/>
          </a:xfrm>
          <a:custGeom>
            <a:avLst/>
            <a:gdLst>
              <a:gd name="textAreaLeft" fmla="*/ 1987920 w 8458200"/>
              <a:gd name="textAreaRight" fmla="*/ 6464520 w 8458200"/>
              <a:gd name="textAreaTop" fmla="*/ 913680 h 7772400"/>
              <a:gd name="textAreaBottom" fmla="*/ 4875480 h 7772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228600"/>
            <a:ext cx="79246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Deciduous Rainforest Biome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5800" indent="-380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uous rainforest biomes do not have huge amounts of rai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15800" indent="-380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ars in the deciduous forests sleep most of the winter because there is less foo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15800" indent="-380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amanders, frogs and snakes hibernate undergroun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06280" y="3468600"/>
            <a:ext cx="1847880" cy="24764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828800" y="48006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3657600" y="34290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1981080" y="3657600"/>
            <a:ext cx="1667160" cy="13716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0" y="3505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Gray Wol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2438280" y="6248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El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4343400" y="4800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Fo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762280" y="0"/>
            <a:ext cx="3181320" cy="25146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362320" y="304920"/>
            <a:ext cx="4572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Grassland Biome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5800" indent="-3808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 years ago a lot of grass lands got turned into far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15800" indent="-3808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s are not usually found I this biome because it dose not get a lot of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15800" indent="-3808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 2" charset="2"/>
              <a:buChar char=""/>
              <a:tabLst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find wolfs in lightly populated packs he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1580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5800"/>
                <a:tab algn="l" pos="873000"/>
                <a:tab algn="l" pos="1330200"/>
                <a:tab algn="l" pos="1787400"/>
                <a:tab algn="l" pos="2244600"/>
                <a:tab algn="l" pos="2701800"/>
                <a:tab algn="l" pos="3159000"/>
                <a:tab algn="l" pos="3616200"/>
                <a:tab algn="l" pos="4073400"/>
                <a:tab algn="l" pos="4530600"/>
                <a:tab algn="l" pos="4987800"/>
                <a:tab algn="l" pos="5445000"/>
                <a:tab algn="l" pos="5902200"/>
                <a:tab algn="l" pos="6359400"/>
                <a:tab algn="l" pos="6816600"/>
                <a:tab algn="l" pos="7273800"/>
                <a:tab algn="l" pos="7731000"/>
                <a:tab algn="l" pos="8188200"/>
                <a:tab algn="l" pos="8645400"/>
                <a:tab algn="l" pos="9102600"/>
                <a:tab algn="l" pos="9559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143160" y="2000160"/>
            <a:ext cx="2857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87440" y="3884760"/>
            <a:ext cx="3400200" cy="2743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3657600" y="3657600"/>
            <a:ext cx="2286000" cy="19242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657600" y="5257800"/>
            <a:ext cx="2286000" cy="685800"/>
          </a:xfrm>
          <a:prstGeom prst="roundRect">
            <a:avLst>
              <a:gd name="adj" fmla="val 231"/>
            </a:avLst>
          </a:prstGeom>
          <a:solidFill>
            <a:srgbClr val="4c19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8:21:34Z</dcterms:created>
  <dc:creator>KH3597</dc:creator>
  <dc:description/>
  <dc:language>en-US</dc:language>
  <cp:lastModifiedBy>KH3597</cp:lastModifiedBy>
  <dcterms:modified xsi:type="dcterms:W3CDTF">2012-11-13T19:24:18Z</dcterms:modified>
  <cp:revision>13</cp:revision>
  <dc:subject/>
  <dc:title>BIOMES</dc:title>
</cp:coreProperties>
</file>